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05D3-A479-43AD-8174-C1237A8A2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270F-EBB4-4613-A2BA-AD3F3F01C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97F4-1A3E-4ABB-82CC-A81961350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E962-2B7E-49FE-B31C-A878C5C4D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693D-CCD1-4F68-9C8D-3DF2665EF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B3AF-7E2B-4421-BDCB-9B23230B9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0038-048D-471D-86D1-662EF3102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CBF5-BBAA-4D56-9EA2-0CC4DE3F9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375D-47CE-4FD8-A9A0-FAA9AA671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E542-15F7-4D49-82A7-5673B4345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AC19-D09D-477D-9FAC-C12EC78C1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085E-2189-4A67-8ED4-7886C7518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DC536-4AF3-4C94-894F-A79540484D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560" y="1599840"/>
            <a:ext cx="38098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 Now 9-22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 can make predictions as I read and look to see if my predictions are accurat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114800" y="609480"/>
            <a:ext cx="50292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k at the picture.  What do you think will happen NEX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886200" y="2286000"/>
            <a:ext cx="5257800" cy="37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2819160"/>
            <a:ext cx="2362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Notes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X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X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X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X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X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X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828800" y="151920"/>
            <a:ext cx="73152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edi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se the text to make an educated guess on what might happen NEX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362320" y="2286000"/>
            <a:ext cx="67816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ad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Who Is the Dark-Haired One?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to MODEL predicting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ng the students to the front of the ro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gin reading at the top of page 23 with “You will not object if we look 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you read, STOP and tell the kids MY predictions.  The next slides shows you exactly what to write on the post-it note that you will stick to the Chart Paper Graphic Organiz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P reading when you get to the bottom of page 2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edicting</a:t>
            </a:r>
            <a:br>
              <a:rPr sz="40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 Says   +     I Know    =      MIGHT happen NEX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PREDIC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3520" y="1676520"/>
            <a:ext cx="2209680" cy="2361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en,” she whisp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rgently, “take you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cklace off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124080" y="1676520"/>
            <a:ext cx="2667240" cy="2438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wish people w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tar of Davi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ound their neck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symboliz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y were Jewis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Nazi soldiers we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oking for Jewis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ople to put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centration camp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72200" y="1676520"/>
            <a:ext cx="2286000" cy="2438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Nazi soldiers wil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over th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en is Jewish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they will take 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w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343400"/>
            <a:ext cx="2286000" cy="228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did you 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ark-haired one?”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 twisted the lock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en’s hair.  “From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father? Fr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ilkman?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00400" y="4343400"/>
            <a:ext cx="2590920" cy="228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people a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ulted by other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y get ang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95880" y="4419720"/>
            <a:ext cx="2362320" cy="2209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predict that the 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ll get angry with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diers and yell 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ependent 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ad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The Breadwinner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 Make 3 predictions on the text as you rea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. Complete the answers in the packet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ependent Rea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tudents will read in their own books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o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ng the kids back together with five minutes left of class, and have them share some of their predic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4T18:39:18Z</dcterms:created>
  <dc:creator>Administrator</dc:creator>
  <dc:description/>
  <dc:language>en-US</dc:language>
  <cp:lastModifiedBy>Administrator</cp:lastModifiedBy>
  <dcterms:modified xsi:type="dcterms:W3CDTF">2010-09-15T14:02:01Z</dcterms:modified>
  <cp:revision>6</cp:revision>
  <dc:subject/>
  <dc:title>Do Now 9-22 I can make predictions as I read and look to see if my predictions are accurate.</dc:title>
</cp:coreProperties>
</file>